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55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3985920" y="0"/>
            <a:ext cx="3041640" cy="455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219320" y="688680"/>
            <a:ext cx="45892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7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-360" y="8736120"/>
            <a:ext cx="3041640" cy="450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3985920" y="8736120"/>
            <a:ext cx="3041640" cy="450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61B1-7929-4A6D-86C7-C2C909B759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3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E36-E723-4495-8B32-918EF6A8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42F-70AB-4C47-AAD1-B5E70E19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196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526-EE02-46C4-9DDF-40B3F557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836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384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9836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384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E56-1FE8-4DAD-9200-043E542F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315D-EB91-4D4F-90C4-F831A9EC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A76A-8CA0-44E9-9CA6-4ADD6538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052D-C2F3-4C74-A204-74E8732B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7242-2DC8-4D46-864F-927D774E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86BA-C8A4-40C9-9DC8-C070325E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64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0674-6CB0-4AA9-A158-4133D082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1876-711D-4A8A-B5EC-BBBF3CD0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55F-FD54-40EC-BFD2-41BF23DA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196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D964-D345-4B39-8BD5-4687EB98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897C-C6D9-4003-A527-10437D21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FAE0-F57A-43C4-AFD2-04307190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196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989C-91BA-4993-AB70-7A09AE7E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9836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384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9836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384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7A4A-8B0F-4993-90FF-C1FCC319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E2A-09EB-49A2-9A27-0C1AC13D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19C-6778-46E5-B61C-B5DFB121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D2A-133B-4E4A-8346-233FD55A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644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6F1-6C77-4890-8200-0A4ECBE8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E3E-8A08-41EA-A11B-2F3A441A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196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C68-3835-4A13-95D8-E6BFE0A6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196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898-E444-45A5-8A9B-E0CDBBD1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1149480"/>
            <a:ext cx="1077120" cy="9155160"/>
            <a:chOff x="-720" y="-1149480"/>
            <a:chExt cx="1077120" cy="9155160"/>
          </a:xfrm>
        </p:grpSpPr>
        <p:grpSp>
          <p:nvGrpSpPr>
            <p:cNvPr id="1" name=""/>
            <p:cNvGrpSpPr/>
            <p:nvPr/>
          </p:nvGrpSpPr>
          <p:grpSpPr>
            <a:xfrm>
              <a:off x="166680" y="-1149480"/>
              <a:ext cx="760320" cy="9155160"/>
              <a:chOff x="166680" y="-1149480"/>
              <a:chExt cx="760320" cy="915516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174600" y="-1149480"/>
                <a:ext cx="74304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174600" y="111456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174600" y="573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174600" y="-94464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174600" y="16992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174600" y="-236520"/>
                <a:ext cx="74304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74600" y="-647640"/>
                <a:ext cx="752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168120" y="4111560"/>
                <a:ext cx="74304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68120" y="3570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168120" y="205092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168120" y="316548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168120" y="2760840"/>
                <a:ext cx="74304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166680" y="2347920"/>
                <a:ext cx="752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174600" y="548640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174600" y="494496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168120" y="6423120"/>
                <a:ext cx="7430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22200" y="7402320"/>
                <a:ext cx="461880" cy="7444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168120" y="7132680"/>
                <a:ext cx="74304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166680" y="6719760"/>
                <a:ext cx="752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016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64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896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71A28-7501-4E0B-AF6A-60B2C5EB42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39680" cy="1012320"/>
              <a:chOff x="-3600" y="2479680"/>
              <a:chExt cx="913968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06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0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887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38240" y="278208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240" y="2750760"/>
                <a:ext cx="990720" cy="466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40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832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52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34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40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212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6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0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8360"/>
            <a:ext cx="776448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E9060-D9BB-4D48-A956-6CA0BFDB63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news.org/wiki" TargetMode="External"/><Relationship Id="rId2" Type="http://schemas.openxmlformats.org/officeDocument/2006/relationships/hyperlink" Target="http://en.wikipedia.org/wiki/Wikibooks" TargetMode="External"/><Relationship Id="rId3" Type="http://schemas.openxmlformats.org/officeDocument/2006/relationships/hyperlink" Target="http://en.wikipedia.org/wiki/Wikibooks" TargetMode="External"/><Relationship Id="rId4" Type="http://schemas.openxmlformats.org/officeDocument/2006/relationships/hyperlink" Target="http://en.wikipedia.org/wiki/Wikibooks" TargetMode="External"/><Relationship Id="rId5" Type="http://schemas.openxmlformats.org/officeDocument/2006/relationships/hyperlink" Target="http://en.wikipedia.org/wiki/Wikibooks" TargetMode="External"/><Relationship Id="rId6" Type="http://schemas.openxmlformats.org/officeDocument/2006/relationships/hyperlink" Target="http://en.wikipedia.org/wiki/Wikibooks" TargetMode="External"/><Relationship Id="rId7" Type="http://schemas.openxmlformats.org/officeDocument/2006/relationships/hyperlink" Target="http://en.wikipedia.org/wiki/Wikibooks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iswiki.org/wiki/" TargetMode="External"/><Relationship Id="rId2" Type="http://schemas.openxmlformats.org/officeDocument/2006/relationships/hyperlink" Target="http://www.libsuccess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eacherlibrarianwiki.pbwiki.com/" TargetMode="External"/><Relationship Id="rId2" Type="http://schemas.openxmlformats.org/officeDocument/2006/relationships/hyperlink" Target="http://teacherlibrarianwiki.pbwiki.com/" TargetMode="External"/><Relationship Id="rId3" Type="http://schemas.openxmlformats.org/officeDocument/2006/relationships/hyperlink" Target="http://teacherlibrarianwiki.pbwiki.com/" TargetMode="External"/><Relationship Id="rId4" Type="http://schemas.openxmlformats.org/officeDocument/2006/relationships/hyperlink" Target="http://teacherlibrarianwiki.pbwiki.com/" TargetMode="External"/><Relationship Id="rId5" Type="http://schemas.openxmlformats.org/officeDocument/2006/relationships/hyperlink" Target="http://teacherlibrarianwiki.pbwiki.com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dcolibrary.wikispaces.com/" TargetMode="External"/><Relationship Id="rId2" Type="http://schemas.openxmlformats.org/officeDocument/2006/relationships/hyperlink" Target="http://walthamhigh.wikispaces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utmeg.wikispaces.com/" TargetMode="External"/><Relationship Id="rId2" Type="http://schemas.openxmlformats.org/officeDocument/2006/relationships/hyperlink" Target="http://bibliotherapy.wikispaces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aming.techsource.ala.org/index.php/Main_Page" TargetMode="External"/><Relationship Id="rId2" Type="http://schemas.openxmlformats.org/officeDocument/2006/relationships/hyperlink" Target="http://www.wowwiki.com/Main_Page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ikimatrix.org/" TargetMode="External"/><Relationship Id="rId2" Type="http://schemas.openxmlformats.org/officeDocument/2006/relationships/hyperlink" Target="http://c2.com/cgi/wiki/WikiDesignPrinciple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asummerreadingt.pbwiki.com/" TargetMode="External"/><Relationship Id="rId2" Type="http://schemas.openxmlformats.org/officeDocument/2006/relationships/hyperlink" Target="http://masummerreadingt.pbwiki.com/" TargetMode="External"/><Relationship Id="rId3" Type="http://schemas.openxmlformats.org/officeDocument/2006/relationships/hyperlink" Target="http://masummerreadingt.pbwiki.com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2.com/cgi/wiki?WelcomeVisitors" TargetMode="External"/><Relationship Id="rId2" Type="http://schemas.openxmlformats.org/officeDocument/2006/relationships/hyperlink" Target="http://uncyclopedia.org/wiki/Main_Page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bstandards.org/learn/faq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6400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What’s a Wiki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ikiped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143000"/>
            <a:ext cx="7772400" cy="59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 online encyclopedia with over 2 million articles in English on a variety of top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50,000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million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ve times more popular than Google News, Yahoo News or BBC (Hitwis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arly as accurate as Encyclopedia Britan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2680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ikiNew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wikipedia spin-off that allows anyone to become a journal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n.wikinews.org/wiki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657600"/>
            <a:ext cx="76197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 textbooks and book-based texts, (similar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liff’s Not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, subdivided into books for youth and academic titles and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org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iki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kibook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6000" y="2971800"/>
            <a:ext cx="28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iki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19332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Examples of Library Wiki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504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LIS Wik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ibrary and Information Science wiki that anyone can edit, with over 200 articles on topics ranging from advocacy to virtua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swiki.org/wiki/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495680"/>
            <a:ext cx="80773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ource of best practices for libraries; articles on collection development, reference, technology, and programm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ibsucces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3733920"/>
            <a:ext cx="40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Library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12024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YALSA Wik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522080"/>
            <a:ext cx="77724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ocacy, Committee Work, TRW/TTW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ttp://wikis.ala.org/yalsa/index.php/Main_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648320"/>
            <a:ext cx="77724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use with blogs and pho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eacherlibrarianwiki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bwiki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31240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Joyce Valenza’s Teacher Librarian 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12024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EDCO Wiki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385640"/>
            <a:ext cx="777240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2.0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dcolibrary.wikispaces.com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9480" y="4114800"/>
            <a:ext cx="799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altham High School Wiki about wikis by Kendall Boni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walthamhigh.wikispaces.com/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68280" y="3200400"/>
            <a:ext cx="3303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S 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12024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CT Nutmeg Wik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176480"/>
            <a:ext cx="777240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udent selected (like the MA Children's Book Award from Salem State). Great model for online book discussion for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utmeg.wikispaces.com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9480" y="4800600"/>
            <a:ext cx="799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esources about bibliotherapy. Only a few booklists! Contribu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bibliotherapy.wikispaces.com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68280" y="4114800"/>
            <a:ext cx="5361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Bibliotherapy 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12024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ALA TechSource GLLS2007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176480"/>
            <a:ext cx="77724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d to promote the event, and then presentations (audio, video, ppt, handouts) were archived here. Excellent resource for Gaming in Libra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gaming.techsource.ala.org/index.php/Main_P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9480" y="4800600"/>
            <a:ext cx="799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esources about bibliotherapy. Only a few booklists! Contribu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421920"/>
                <a:tab algn="l" pos="987912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www.wowwiki.com/Main_P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68280" y="4114800"/>
            <a:ext cx="5361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oW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1292040"/>
            <a:ext cx="77724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Resource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eb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ki Matri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for comparison of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ikimatrix.org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ki Design Princi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 list of concepts by creator Ward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2.com/cgi/wiki/WikiDesignPrinciple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Wiki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waiian for “quick” or “inform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webpage with content created by and edited by multiple users, with immediate results visible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oftware used to create such a web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ttp://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Print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nningham, Ward and Bo Leuf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Wiki Way: Collaborating and Sharing the Interne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Addison-Wesley, 2001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bersbach, Anja et al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ki: Web Collabora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Springer, 2005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iki Gloss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ki Farm – website that hosts wikis, so you don’t have to download, install or host anything on your own server, or worry about the programming end of creating a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ki Gnome – anonymous poster who bats cleanup, tirelessly making minor 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ki Squatting – using a wiki as free personal web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iki Glossary, cont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64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ki Tags – elements that add formatting, such as bold, italics, et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kipedian – avid contributor to Wikipedia, a free online encyclopedia, created and maintained by its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ndbox – wiki page for testing and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phan page – abandoned page, often with no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alled Garden – a series of Wiki pages that link only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MA Summer Reading Wik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0" indent="-5256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twork, Booklists, Resources for the MA S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asummerreading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pbwik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Basic Wiki Ta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= bull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! = head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*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'' =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al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| = b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wPage = new page (two or more words strung together with no spaces and capital first letters creates a new page and a link to tha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[url|link] to create a web hyper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Interesting Fa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ldest known wiki is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ikiWikiWe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created by Ward Cunningham in 1995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2.com/cgi/wiki?WelcomeVisi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kipedia saw a 154% traffic increase last year (Hitwis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kipedia was recently cited as the #1 reference source on the web (HitWis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spawned a parody site,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ncycloped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filled with misinformation and utter lies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uncyclopedia.org/wik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How Are Wikis Used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356840"/>
            <a:ext cx="777240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ections of articles or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ed book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ections of shared materials (Ellison dies, equipment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Qs on a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ve student projects (i.e., poems, fanfic, art, book reviews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ing policies or other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olarly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Advantag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67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one can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HTML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are im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ges and links are instant &amp; aut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one knows everything, but everyone knows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hands make ligh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s are easy to view and 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Web Standards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ebstandards.org/learn/faq/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Disadvan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one can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information may not get fixed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amiliar style (no HTM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ly text, few bells &amp; whis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hority of authors questi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ctional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tation can be challe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y Do Wikis Work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one owns it, so everyone is responsible and feels a sense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 groups of volunteers are very de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ream rises to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kis generate a culture of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ourse is court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en Do Wikis Fail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m, though discouraged and deleted, still rears it’s ugly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agreement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ries and threads get off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ctional subjects are taken as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feel a sense of personal ownership over your writing, wikis are not for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ges not maintained may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1292040"/>
            <a:ext cx="77724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Examples of Wiki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What’s a Wiki</dc:title>
</cp:coreProperties>
</file>